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2A2F-8F24-40DC-B873-FF74DE1CC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89FA-1CD5-49EC-B929-538A5E49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AA14-F2E3-429A-A4E0-6E7D47833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6C5A-85AB-443C-A4CD-A43428B7C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C61B-19F1-4643-9C7C-72656544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3563-24D2-41C4-8A66-97A1E6E7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37C1-66FD-4DDA-AC49-B595B92D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711F-46EE-4A81-8330-54994323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88DC-5BBE-4F48-A8F0-5268D28A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A1F0-3840-41D7-8736-6BFB8418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B2EB-5574-4D00-A5CA-1D63F767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19C6-3776-42FB-BF3A-5DC83795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40B9-106E-438A-83B6-63F5D07076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gle: Tcl Implementation in C#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Microsoft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embed in CLR 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able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CLR cl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Tcl/T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native libr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active debug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script cancel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read-only variables, command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preter-wide variable trac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clos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Unicode (UCS-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Tk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rgument expansion synt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namespace sup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binary, fblocked, fcopy, fileevent, format, glob, history, memory, scan, or trac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registry or DD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erver so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lave interpreters, no hidden commands, no aliases, and no Safe Tc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open command, command pipelines and serial port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exec command, Unix-style input/output redirection and command pipeline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8-10-22T06:56:22Z</dcterms:modified>
  <cp:revision>140</cp:revision>
  <dc:subject>Eagle</dc:subject>
  <dc:title>Eagle: Tcl Implementation in C#</dc:title>
</cp:coreProperties>
</file>