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0D637-8A7A-4BEE-AB6A-EF97496A9FBD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B5DFE-8527-4E70-9D2A-6304AA5475B2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17440-EC3B-4031-AFB8-45FAA85D2ED3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9F0CB-2219-4E21-AE9A-10C55A26CC5B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DA12D-EEA1-4DA4-9112-080B6CF50C52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3953E-EA5C-4FFD-838F-425BC8C1044A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8E616-97E8-4A43-8C94-D7AEAA200EBA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A77AB-E56D-403C-BA87-0C846E1B8DBB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71A0A-D5B4-481C-AAC9-5823CC72C7CD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FB494-FF87-4307-8D25-CAEC22C2FADA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61891-7384-45F8-BBCA-61D88BD1281A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627FD-C525-4FE3-9AF4-2F4D0DCBA434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9A6DA-CDE0-465D-972D-AA94D52C2F28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8ABDD-DEE3-489A-9F78-C697180BBD6B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A350A-AF11-476F-85A7-B93297347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C969C-6FC3-472F-841B-E805363CE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5A655-4B94-4815-89B7-0B12E987E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9EB16-E967-4E4D-971B-2563CEB3B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7BFF8-67EF-4869-A2D6-9D6DD7757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70C60-021E-4E87-99FB-521AE8EA1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04244-B092-4234-BB7F-31DF90937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F0254-A333-453D-A2CE-FCE5A403C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5F902-303A-460C-9715-11DE38168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D4C07-1F73-41B9-AD56-B50270A39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803E6-2D49-464D-8A83-46C3F9440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D0E77-B553-4982-AE50-E25C7941D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0E894-2EE1-441A-8B53-5BBC70892C59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tk@dacsystem.pl" TargetMode="External"/><Relationship Id="rId2" Type="http://schemas.openxmlformats.org/officeDocument/2006/relationships/hyperlink" Target="http://tkosiak.blogspot.com/" TargetMode="External"/><Relationship Id="rId3" Type="http://schemas.openxmlformats.org/officeDocument/2006/relationships/hyperlink" Target="http://www.dacsystem.pl/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tcl.org/2008/Download/Saturday/EuroTcl2008-Steffen_GSoC.pdf" TargetMode="External"/><Relationship Id="rId2" Type="http://schemas.openxmlformats.org/officeDocument/2006/relationships/hyperlink" Target="http://www.eurotcl.org/2008/Download/Saturday/EuroTcl2008-Steffen_GSoC.pdf" TargetMode="External"/><Relationship Id="rId3" Type="http://schemas.openxmlformats.org/officeDocument/2006/relationships/hyperlink" Target="http://www.eurotcl.org/2008/Download/Saturday/EuroTcl2008-Steffen_GSoC.pdf" TargetMode="External"/><Relationship Id="rId4" Type="http://schemas.openxmlformats.org/officeDocument/2006/relationships/hyperlink" Target="http://www.eurotcl.org/2008/Download/Saturday/EuroTcl2008-Steffen_GSoC.pdf" TargetMode="External"/><Relationship Id="rId5" Type="http://schemas.openxmlformats.org/officeDocument/2006/relationships/hyperlink" Target="http://www.eurotcl.org/2008/Download/Saturday/EuroTcl2008-Wirl_GSoC.pdf" TargetMode="Externa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mailto:blicharski@gmail.com" TargetMode="External"/><Relationship Id="rId2" Type="http://schemas.openxmlformats.org/officeDocument/2006/relationships/hyperlink" Target="http://www.assembla.com/wiki/show/tktopdf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mailto:dah4ns@gmail.com" TargetMode="External"/><Relationship Id="rId2" Type="http://schemas.openxmlformats.org/officeDocument/2006/relationships/hyperlink" Target="http://trac.assembla.com/gsoc2008-tcl_dynamic_libraries/wiki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mailto:ania.pawelczyk@gmail.com" TargetMode="External"/><Relationship Id="rId2" Type="http://schemas.openxmlformats.org/officeDocument/2006/relationships/hyperlink" Target="http://www.assembla.com/wiki/show/TkTests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26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cl/Tk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Google Summer of Code 200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68000" y="3886200"/>
            <a:ext cx="73040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masz Kosiak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&lt;tkosiak@gmail.com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tkosiak.blogspo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dacsystem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Tcl 2008 Confe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Oct 23, Manassas VA, U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masz Kosiak’s 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ckground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 (tkosiak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king with Tcl from 1999 (first AOLserver, now mosty Tcl serv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ner, manager, software architect/developer at DAC System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- DAC System is 3 years old company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-10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people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ing dedicated software (in Tcl and AJAX) for telemetry and doing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th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eploy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v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 Gdańsk Bay area in northern Poland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(TriCity=Trójmiasto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– ther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also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 Tcl users:  zjednoczenie.com (AOLserver based websites ex. mtv.eu), Polska.pl/Poland.pl (national portal),  Intel Technology Poland (test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cl in South Poland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rakow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: Wojciech Kocjan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http://www.kocjan.org/about-me.html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ANT Industrial Software Systems (general SCADA/HMI with Tk and/or AJAX UI), www.onet.pl (AOLserv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Tcl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SoC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 2008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tiv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I hir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duates from Technical University of Gdańsk after they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prove themselvs i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nship during sum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SoC provided funding and mentor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shi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work on projects which d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idn’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enefit DAC System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zing work is my daily job  – I’m quite good at making things happ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cl GSoC 2008 Im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28760" y="1285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is a key but it doesn’t always work out of the 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need reasonable projects with committed men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can we expect from a student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 programming, some motivation and no more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are student expectations (except Google hype)? Doable project and mentor devotion first, money sec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all we bother at all with Tcl 2009 GSo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MHO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SoC is important way to bring in new Tcl developer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commercial Tcl usage at Tcl based companies is another on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Q &amp; 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Contact</a:t>
            </a:r>
            <a:br>
              <a:rPr sz="3600"/>
            </a:b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Tomasz Kosiak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e-mail: tk@dacsystem.pl</a:t>
            </a:r>
            <a:br>
              <a:rPr sz="2800"/>
            </a:b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http://tkosiak.blogspot.com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Tcl/Tk GSoC 2008 </a:t>
            </a:r>
            <a:r>
              <a:rPr b="1" i="1" lang="pl-PL" sz="4000" spc="-1" strike="noStrike">
                <a:solidFill>
                  <a:srgbClr val="000000"/>
                </a:solidFill>
                <a:latin typeface="Arial"/>
              </a:rPr>
              <a:t>(url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iki.tcl.tk/2083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code.google.com/p/google-summer-of-code-2008-tcl/downloads/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groups.google.com/group/comp.lang.tcl/browse_thread/thread/72b3e6626aa20095/50174260499805b3?hl=pl&amp;lnk=gst&amp;q=Tcl+GSoC+Projects#50174260499805b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www.eurotcl.org/2008/Download/Saturday/EuroTcl2008-Steffen_GSoC.pd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www.eurotcl.org/2008/Download/Saturday/EuroTcl2008-Wirl_GSoC.pd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Tcl/Tk GSoC 2008</a:t>
            </a:r>
            <a:r>
              <a:rPr b="1" i="1" lang="pl-PL" sz="4000" spc="-1" strike="noStrike">
                <a:solidFill>
                  <a:srgbClr val="000000"/>
                </a:solidFill>
                <a:latin typeface="Arial"/>
              </a:rPr>
              <a:t> (tkosiak)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Tcl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iginally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h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slots, finally 9 slots after we advertised as umbrella organization for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Tcl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k,  AOLserver, OpenACS/.dotLRN, XOTcl, aMSN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forgot about Expect) and Tk being part of Perl &amp; Python dis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 slots =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9 x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500 USD for students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+ 9 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500 USD for mentors (Tcl Associ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IMHO we h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very capable students from Poland (3 from Gdańsk and 1 from Warsaw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Tcl/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k 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inting 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p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t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 (TkPrint)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udent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Krzysztof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rzysiek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licharski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blicharski@gmail.com</a:t>
            </a:r>
            <a:r>
              <a:rPr b="0" lang="pl-PL" sz="1600" spc="-1" strike="noStrike" u="sng">
                <a:solidFill>
                  <a:srgbClr val="000000"/>
                </a:solidFill>
                <a:uFillTx/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ntor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lif Fly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rl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assembla.com/wiki/show/tkto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re Tcl implementation / C source stud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spects widgets graphical properties and gathers it nn di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tes PDF from information in those di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ndles many widgets including canvas but not text wid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ormation how widgets draws itself is duplicated in tktopdf tcl source code – derived from studies on C implemen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 it support Tile? (probably no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ight way is to 1) provide more retrospection about how widgets draws itselves  2) start with a TIP what is really need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oading shared libraries from memory (and/or Tcl channels) (1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udent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niel Hans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dah4ns@gmail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ntor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reas Kup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rl: </a:t>
            </a:r>
            <a:r>
              <a:rPr b="1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trac.assembla.com/gsoc2008-tcl_dynamic_libraries/wik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al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able loading shared libraries from starkits without putting them in temporary fil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plored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rting RTLD library (part of FreeBSD dynamic linker) to Linux and trying to make it work with Linux dynamic lin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y RTLD – its license is compatible with Tcl so it could be bundl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TLD was extracted from FreeBSD sources and ported to Linu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c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load simple dynamic shared libra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 cannot load libtcl85.so from memory (fix could be simple or quite complex – no diagnosi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oading shared libraries from memory (and/or Tcl channels) (2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bl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required high degree expertise on shared libraries linker internals – not already available within Tcl community so student mosty worked on his own – when he got stuck we couldn’t really help him without doing work for him (and it wasn’t exercis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KU: On OS X we have OS support, making it basically 100% an integration thing – complexity 99% in Tcl, 1% in lin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KU: On other platform complexity was not in the integration, but in the load/link parts themselves, maybe 1% integration, 99% linker intern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spect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not create/bundle own linker (based on RTLD) but help to put memory-load feature into native linkers on supported platfo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some workarounds to use native linkers (put shared library in /dev/shm on BSD, FUSE on Linux, Windows ???)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pdate Tk 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Test System (TkTests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Student: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Ania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welczyk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nia.pawelczyk@gmail.com</a:t>
            </a:r>
            <a:r>
              <a:rPr b="0" lang="pl-PL" sz="1600" spc="-1" strike="noStrike" u="sng">
                <a:solidFill>
                  <a:srgbClr val="000000"/>
                </a:solidFill>
                <a:uFillTx/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tor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Jeff Hobb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Url: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assembla.com/wiki/show/TkTe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o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onvert syntax from 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test v1 to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test v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ination of why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many of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s fai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pendence from the system's settings – revisiting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ividual test case independence – adding setup/clean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pdate Tk 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Test System (TkTests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(2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al 1 is formally accompli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als 2..4 just scratched – see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http://www.assembla.com/flows/flow/a_KwcurkGr3ztnab7jnrA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5 out 110 test files is lastly touched by ania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</a:t>
            </a:r>
            <a:br>
              <a:rPr sz="2400"/>
            </a:b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http://tktoolkit.cvs.sourceforge.net/viewvc/tktoolkit/tk/tests/?sortby=author#dirli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son new to Tl/Tk cannot become tktest expert without extensive help from men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be 50% of effort was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spoi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Tile tests touched – project was not called TtkTests (intended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cl Bindings to DTrace (TclDTrac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udent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Remigiusz (Jan Andrzej) Modrzejewski &lt;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lrem@go2.p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gt;  Poland,Gdańs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ntor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niel Steffen (Switzerland, Zuric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rl: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http://dev.lrem.net/tcldtrace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Ttac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dynamic tracing framework from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ost successful project from Polish students (both mentor and student are very happy with i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udent had all the required skills – what was indeed needed?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) C programming, b) good system administration skill which allowed him to create work environment OpenSolaris, c) kernel understanding (he writes for Linux Journal about Linux kerne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ntor was very helpful – helped to design API, tested on unavailable platform (Mac OS X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disturbed systematic communication – almost the same time zone (Poland – Switzerlan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1T19:29:41Z</dcterms:created>
  <dc:creator>Tomasz Kosiak</dc:creator>
  <dc:description/>
  <dc:language>en-US</dc:language>
  <cp:lastModifiedBy>tkosiak</cp:lastModifiedBy>
  <dcterms:modified xsi:type="dcterms:W3CDTF">2008-10-23T06:36:07Z</dcterms:modified>
  <cp:revision>19</cp:revision>
  <dc:subject/>
  <dc:title>Tcl/Tk Mature but Evolving Dynamic Language</dc:title>
</cp:coreProperties>
</file>